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BE-3150-4683-8C8D-7311F7DA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D8F-F12C-41F5-8A6D-2CA325C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E1C-3D5C-4F2A-AAF2-F4016372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884-333C-428C-A20A-7B180D21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91BF-903C-4067-9E3D-A5F52260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F298-A2E4-4439-A5A3-0DC7DE43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1F95-519E-4090-956D-488EA98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D38-5A52-4E5B-819F-F541F99A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B22E-C789-4C60-8EBE-B5E93F25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BB1-6606-4EBF-99AD-BCE463A7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7CC8-56D7-44B4-971A-9A8A8E8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53A-7E96-4685-A4BD-BAFD87A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EB3-132E-4182-ADD8-74E746A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A64C-9AC8-411D-B9CD-C95FEA8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F42E-3F63-451A-8344-328F630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F8F5-0811-4A20-B820-47E78967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3472-1AFC-4AA3-92B9-CCFD078D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C78-2D9E-427F-A851-96E876E1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6F6-E1A5-4C9A-B162-7032F09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0BC-D90A-464F-889E-60D40E40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B92-74E6-4DF5-9DA9-A37181A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70E-AD5C-47D1-90C6-C131E8E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8BE-D865-4816-A370-A5C1C92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C6E-D8B2-4AF6-93A2-308CCBD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47C-7A17-457C-A030-B33215A1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69E6-685E-428D-8D57-C72C2CFD319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800"/>
            <a:ext cx="795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Sm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NOG 7, Pago Pago, American Sam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th June - 3rd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4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g Basic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Routing Protocol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v3”, “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: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: Lab Module 1 – IPv6 OSPF and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: 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: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8:30: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&amp;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30  Lab Module 6 – IPv6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GP Best Current Practic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 and Advanced 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00 and 15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07-02T02:42:58Z</dcterms:modified>
  <cp:revision>62</cp:revision>
  <dc:subject>ISP/IXP Workshops Asia Pacific</dc:subject>
  <dc:title>ISP/IXP Workshop Agenda</dc:title>
</cp:coreProperties>
</file>