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9E2-017A-4D89-A2F2-49269E14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E63-ED60-4AA8-AAE1-7C7D75AB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FCC-27BC-449F-A5A7-59372D9B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68E-37A7-4D71-8084-EF108C51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6AD8-2E24-4850-9BF0-C30CD9B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0958-FF02-40EA-A052-D2C704B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5AD-6398-4860-AA3E-97A433B4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FDD9-F624-45B8-863F-A6F5294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F026-13E0-41C9-B2DD-9CD26F69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CD6B-7847-4A38-86ED-215C7DC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3B1-6357-46A1-B3F3-5BD17EBF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BDA-5F82-443C-91AA-09E8235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F0A2-E4F0-4F68-9FFF-7C39277A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DBA-2211-4258-BBC6-86AB9D3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7656-05EF-4CC2-853D-4BEF2578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C0C3-9DFA-4688-9755-40A399E7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1EF8-EF73-4040-B69E-D6D3228F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094-2F35-45DD-A763-07D9D6F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693-3A32-4127-8FD5-5667EB84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56C-98F4-45C4-9742-6B6F8A27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A3F-5044-4885-A44A-9D610B77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747-0778-4BDE-BA7F-8B92A699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F9E-49A5-42BE-94A7-DB449265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26B-61E8-4687-A40B-FAC3B01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6849-BC7E-46C1-9827-DBBD1B389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F5E-F131-4260-98DB-D60629C74BBC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BGP Workshop (IPv4 &amp; IPv6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Smith &amp; Jonny Mar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NOG 8, Pohnpei, F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- 27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u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 Introduction”, “Routing Bas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OSPF”, “OSPF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Basic OSPF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&amp;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Wedn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Standards and Protoco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finish IPv4 iB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Addressing &amp; Routing Protocols”, “OSPF &amp; 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IPv6 OSPF and iBG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 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and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 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–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 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Fri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2017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 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Scaling Techniques”, “BGP Best Pract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BGP Rout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(continu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Satur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Multihoming – Part 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Multihoming – Part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ing Dynamips, Out of band manage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0-11-27T00:38:27Z</dcterms:modified>
  <cp:revision>71</cp:revision>
  <dc:subject>ISP/IXP Workshops Asia Pacific</dc:subject>
  <dc:title>ISP/IXP Workshop Agenda</dc:title>
</cp:coreProperties>
</file>