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A8C-4004-4DB0-911E-E05FBE87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5C9-2BCA-4E78-9B12-911185F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A6A-C153-4F44-93CB-62382E80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E42-AC99-40DE-8BC8-EED17F52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B86-741B-4D31-A479-F72D66D7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8F0-1C21-45AB-993F-608DF12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22E-30D9-4C8A-BB06-DC107B9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FDB-2943-45AC-92C1-EF84817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445-8556-49C3-B05A-05C175A0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1C4-A1F0-4BD3-B627-E9A9993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8B3C-3FCD-450B-A159-270886D9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58F-B10F-4031-9040-F4BCF57C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B762-9179-4EB5-9249-A21CCA5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740D-0D07-4800-8DAF-9057FB6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6E68-9E2F-4059-A572-FAC74D5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2F2-D6B3-4DAD-B07D-4EB00C0C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5EED-C4DB-424F-9328-A8D46078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64F-DF7A-40B7-BAB9-A42E740D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CBA-5D56-40F8-A184-6F3854D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2A8-7985-4D8D-A5CB-D8121CF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A08-EF46-43D1-A1A9-ED890FC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E7D-42EF-4676-819F-076C56B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4C4-F788-44EC-B3C1-2BB2807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233-BF18-4858-97AF-BAE4855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6D0-7CFB-4462-9DE0-763FDBD38A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B9F-EB8A-498F-99C7-23A931B46C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40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IPv4/IPv6 BGP Workshop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cNOG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va, Fij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th June - 2nd July 201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House Ru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fu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k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kype, IM, Facebook, Twitter or other social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bile phones OFF or on SI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if you must take calls, please do so OUTSIDE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lease be back on time after brea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BGP Worksho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eting your Instructo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ilip Smi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nny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Tue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Introductions,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0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1 – Basic OSPF &amp; iB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Wedne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:30  Lab Module 1 (finish IPv4 iBG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v6 Addressing &amp; Routing Protocol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1 – IPv6 OSPF and iBG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PF &amp; BGP for IPv6”, “BGP Scaling Techniqu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Thur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-byte ASN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30  Lab Module 3 – BGP Route Refl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6 – iBGP and eB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Fri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30  Lab Module 6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Multihoming – Part 1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Lab Module 7 – IPv6 Route Fil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Satur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:30  Lab Module 7 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7 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5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Multihoming – Part 2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30  Extra Top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00  End of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 for tea/coffee at 10:00 and 16: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cp:keywords/>
  <dc:language>en-US</dc:language>
  <cp:lastModifiedBy>Philip Smith</cp:lastModifiedBy>
  <cp:lastPrinted>2011-06-03T13:11:24Z</cp:lastPrinted>
  <dcterms:modified xsi:type="dcterms:W3CDTF">2011-07-02T03:05:25Z</dcterms:modified>
  <cp:revision>105</cp:revision>
  <dc:subject/>
  <dc:title>Workshop Agenda</dc:title>
</cp:coreProperties>
</file>